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E0B-7E9E-442D-BD4C-A41A96C9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BD2-32B2-4F35-A584-2C25B9F1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2BD-D3D3-4106-BE28-F8B577F8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38E-6A84-403C-9806-2B2C3A16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BB8E-7C13-400C-94B3-5587CC34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A9B1-6DB4-4A8C-9B6D-25723CF3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0DF8-0D22-4CD6-86BF-099BE870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9475-0E81-41EB-9BC9-E5AB84DD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99D3-583D-4374-85C9-993C6A6F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7D31-157B-474F-B3E3-2B2B7503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0517-BAB3-4040-A303-57297294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A7E-8859-4577-865F-76D285C1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D358-75F5-40CE-8BF5-2B7AAEA3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052D-9F2F-46C5-A009-A41E6DBA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34E0-DCFA-4F6D-A580-29077392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98E3-648F-486B-B059-F2E4F45D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25E6-2013-42BB-8C3B-C244E6B7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730-4541-44D7-98F7-F188F99E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4AB-0D29-4A62-A6AC-2A39733D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33A-0214-4C39-8C6F-660C48A6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100-D0D3-45B2-A06B-4FC18F9A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FEB-840E-4F22-A0B9-DA3FD272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A8C-A5D4-4216-AFE9-12F13B92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57C-EF61-497F-9005-BB967FE5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C774-7474-4395-9644-432EA2693C16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80E2-7E85-4DC6-9CA8-B99C717856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D4D5-6F7E-4338-8C18-E69F590B5E8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8D01-3E9E-4F79-BBFF-165EF9357E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Arial"/>
              </a:rPr>
              <a:t>Interfaces and Collec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B7D9-7E06-4604-A80D-BB773CA12E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28600" y="152280"/>
            <a:ext cx="868680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atch a possible InvalidCastExcep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ircle c = new Circle("Lisa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Pointy itfP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tfPt = (IPointy)c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//ca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itfPt.Point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tch (InvalidCastException 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e.Message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B6D-0465-4205-9261-9452C1ECB0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28600" y="380880"/>
            <a:ext cx="8686800" cy="6177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erface Add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 Add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erface Multip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 Mul();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ass Computation : Addition, Multip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 x, 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omputation(int x, int 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his.x = x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his.y = 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int Add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(x + y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int Mul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(x * y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8ABE-BEB5-4BF0-9389-58E015C8C3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28600" y="228600"/>
            <a:ext cx="868680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Interface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putation com = new Computation(10, 2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ddition add = (Addition)co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Sum =" + add.Add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ultiplication mul = (Multiplication)co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Product =" + mul.Mul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8CE-EEF5-418E-A1A7-70729A6E0C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aining Interface References: The as Key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52280" y="762120"/>
            <a:ext cx="88394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cond way we can determine whether a given type supports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 is to make use of the as keyw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object can be treated as the specified interface, we are return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 reference to the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600" y="2438280"/>
            <a:ext cx="868680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an we treat hex2 as IPoint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xagon hex2 = new Hexagon("Peter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Pointy itfPt2 = hex2 as IPoint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f(itfPt2 != nu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Points: {0}", itfPt2.Point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OOPS! Not pointy...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1EA-FE6E-40B9-A2C9-C6922FFEB1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8600" y="1279440"/>
            <a:ext cx="876312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Interface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putation com = new Computation(10, 2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Addition add = (Addition)co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ddition add = com as Additio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Sum =" + add.Add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Multiplication mul = (Multiplication)co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ultiplication mul = com as Multiplicatio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Product =" + mul.Mul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28600" y="152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the previous example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A26-6F56-4D85-9B08-3AB8BEE887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aining Interface References: The is Key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52280" y="685800"/>
            <a:ext cx="88394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may also check for an implemented interface using the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keywor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object is not compatible with the specified interface, we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turned the value fal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the other hand, if the type is compatible with the interface we c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afely call the memb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C7C-1CBF-4981-83FA-5000126AD1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04920" y="304920"/>
            <a:ext cx="8610480" cy="5612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hape[] s = { new Hexagon(), new Circle(), new Triangle("Joe"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ew Circle("JoJo")}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(int i = 0; i &lt; s.Length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Recall the Shape base class defines an abstract Draw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member, so all shapes know how to draw themselv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[i].Draw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Who's point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f(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s[i] is IPointy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Points: {0} ", ((IPointy)s[i]).Point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{0}\'s not pointy!", s[i].PetNam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1F0-1694-434A-A852-96B782B189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7632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aces As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09480"/>
            <a:ext cx="883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n that interfaces are valid .NET types, we may constru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 that take interfaces as parame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you have defined another interface named IDraw3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133720"/>
            <a:ext cx="876312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Models the ability to render a type in stunning 3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IDraw3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Draw3D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733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that two of the three shapes (Circle and Hexagon) ha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een configured to support this new behavi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7920" y="4545000"/>
            <a:ext cx="5748120" cy="21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6D18-7DE1-4391-9511-C248AA9804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28600"/>
            <a:ext cx="868680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ircle supports IDraw3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Circle : Shape,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Draw3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Draw3D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Drawing Circle in 3D!"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Hexagon supports IPointy and IDraw3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Hexagon : Shape,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Pointy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Draw3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Draw3D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Drawing Hexagon in 3D!"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8B6-E5C9-407C-A1A7-248F00F691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152280"/>
            <a:ext cx="8763120" cy="559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// Make some shapes. If they can be rendered in 3D, do it!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public class Progra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public static void </a:t>
            </a:r>
            <a:r>
              <a:rPr b="0" sz="1900" spc="-1" strike="noStrike">
                <a:solidFill>
                  <a:srgbClr val="cc3300"/>
                </a:solidFill>
                <a:latin typeface="Times New Roman"/>
              </a:rPr>
              <a:t>DrawIn3D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sz="1900" spc="-1" strike="noStrike">
                <a:solidFill>
                  <a:srgbClr val="000000"/>
                </a:solidFill>
                <a:latin typeface="Times New Roman"/>
              </a:rPr>
              <a:t>IDraw3D itf3d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Console.WriteLine("-&gt; Drawing IDraw3D compatible type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900" spc="-1" strike="noStrike">
                <a:solidFill>
                  <a:srgbClr val="000000"/>
                </a:solidFill>
                <a:latin typeface="Times New Roman"/>
              </a:rPr>
              <a:t>itf3d.Draw3D(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static void Main(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Shape[] s = { new Hexagon(), new Circle()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new Triangle(), new Circle("JoJo")} 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for(int i = 0; i &lt; s.Length; i++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if(s[i] is IDraw3D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DrawIn3D((IDraw3D)s[i]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B5D-2AAF-45F9-B05A-D6FB084865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2ABC-196F-4F90-85A6-2CF9AEE003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ng Interfaces Using C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762120"/>
            <a:ext cx="876312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nterface is a collection of semantically relat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bstract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memb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nterface expresses a behavior that a given class may supp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nterface is defined using the C# "interface" keyw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like other .NET types, interfaces never specify a base class (no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ven System.Obje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contain members that d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an access modifier (given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 methods are implicitly public, in order to allow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pporting type to implement the member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4920" y="4861080"/>
            <a:ext cx="868680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Interfaces don't have base classes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erface IPoin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GetNumberOfPoints(); // Implicitly public and abstra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CE4-94AC-429E-ADA6-6EEBFAD24F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320" y="76320"/>
            <a:ext cx="906768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rays of Interface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76212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interface can be implemented by numerous types, even i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y are not within the same class hierarch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you have an array of IPointy-compatible object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se members all support the same interface, we are  able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terate through the array and treat each object as an IPointy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atible object, regardless of the overall diversity of the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ierarch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896-2751-43AF-A50B-37BD79BF8D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380880"/>
            <a:ext cx="8839440" cy="4483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This array can only contain types that implement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// IPointy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ointy[] myPointyObjects = {new Hexagon(), new Knife(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riangle(), new Fork(), new PitchFork()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i = 0; i &lt; myPointyObjects.Length; 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Object has {0} points."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PointyObjects[i].Point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7C4-83EC-4092-9685-163AE7DC36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1200" y="127080"/>
            <a:ext cx="868680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interface IPoin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yte Points { get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abstract class 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rotected string petNam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Shap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etName = "Noname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Shape(String 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etName = 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AE5-2E52-4200-BE19-0716A4BCC3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228600"/>
            <a:ext cx="8686800" cy="6311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virtual void Draw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Shape.Draw()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string Pet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return petNam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etName = valu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6D6-553F-4C91-A757-8138151E71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177840"/>
            <a:ext cx="8763120" cy="6494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lass Circle : 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ircl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ircle(String name): base(na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lass Hexagon : Shape, IPoin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Hexago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Hexagon(string name): base(na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71B-9A60-4C8E-AEF3-1B7D2883AC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920" y="152280"/>
            <a:ext cx="8610480" cy="6616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override void Draw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Drawing {0} the Hexagon", PetNam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byte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get { return 3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lass Triangle : Shape, IPoin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Triangl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Triangle(string nam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: base(na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18D-20D7-495E-B24D-4DBC9E09C5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228600"/>
            <a:ext cx="8686800" cy="4848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override void Draw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Drawing {0} the Triangle", PetNam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byte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return 6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D46-8B34-4FDB-A6E6-574A3986E3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2280" y="228600"/>
            <a:ext cx="8763120" cy="6311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ass Fork : Shape, IPoin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byte Points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return 9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ass PitchFork : Shape, IPoin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byte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return 1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1F7-3BFE-4E80-AED7-C621106EEE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304920"/>
            <a:ext cx="8686800" cy="6136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Pointy[] myPointyObjects = { new Hexagon(), ne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riangle(), new Fork(), new PitchFork() 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for (int i = 0; i &lt; myPointyObjects.Length; 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Object has {0} points."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myPointyObjects[i].Point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32C-4404-4AEA-BD85-0DB37F5A48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Explicit Interface 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60948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of the problem why C# does not support multiple inheritance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problem of name colli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is present in C# when it implements more than o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362320"/>
            <a:ext cx="8686800" cy="33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erface L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void Display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erface L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void Display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C : L1, L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void Display()  {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579132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C.Display() implements L1.Display() or L2.Display()…..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ambiguous &amp; compiler reports an err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D65-6766-465E-A65E-43AC10A80E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8600" y="152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NET interfaces are also able to define any number of proper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28600" y="685800"/>
            <a:ext cx="876312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e pointy behavior as a read / write proper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erface IPoin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Remove 'get' or 'set' to build read/write only proper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Points{ get; set;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2895480"/>
            <a:ext cx="8686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differences b/n class &amp; interf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the members of an interface are implicitly public &amp; abstra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nterface cannot contain constant fields, constructors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stru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s members cannot be declared stat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ce the methods in an interface are abstract, they do not inclu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mplementation co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787-C8C2-4C66-8702-64697A69A5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1522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supports a technique known as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xplicit interface implement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ich allows a method to specify explicitly the name of the interfa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t is implemen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447920"/>
            <a:ext cx="876312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erface L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display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erface L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display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void displa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C Display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B94-0648-4649-AF81-83A258C249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28600"/>
            <a:ext cx="876312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C1 : C,L1,L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L1.displa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L1 Display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L2.displa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L2 Display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override void displa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C1 Display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E00F-615B-4A3B-80EA-B2FAC05609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152280"/>
            <a:ext cx="8610480" cy="43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Inteface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1 c = new C1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.display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L1 l1 = (L1)c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l1.display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L2 l2 = (L2)c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l2.display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35E-8305-443F-B475-EE7F0467785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ing Interface Hierarch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762120"/>
            <a:ext cx="87631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s a class can serve as a base class to other classes, it is possib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build inheritance relationships among interfac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expected, the topmost interface defines a general behavior, whi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most derived interface defines more specific behavio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803680"/>
            <a:ext cx="8610480" cy="375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IDraw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Draw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IPrintable : IDraw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Prin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IMetaFileRender : IPrin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Rende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667240" cy="426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102-3CCA-4033-909E-D9FADED093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152280"/>
            <a:ext cx="876312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 class wished to support each behavior expressed in this interfa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ierarchy, it would derive from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th-mos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IMetaFileRender in this case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methods defined by the base interface(s) are automatical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rried into the defini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is some sample usage of exercising each interface from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perImage inst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798-0628-4AE8-B0B2-7D44D798B7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228600"/>
            <a:ext cx="8839440" cy="648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interface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 IDrawabl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void Draw(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IPrintable : IDrawabl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void Print(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IMetaFileRender : IPrintabl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void Render(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SuperImage : IMetaFileRend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void Draw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Basic drawing logic.");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void Print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Draw to printer.");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void Render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Render to metafile.");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12D-E5F5-4414-B439-AFE2943F3EE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228600"/>
            <a:ext cx="8763120" cy="4972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Ex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uperImage si = new SuperImag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Drawable itfDraw = (IDrawable)s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tfDraw.Draw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f (itfDraw is IMetaFileRend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MetaFileRender itfMF = (IMetaFileRender)itfDraw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tfMF.Rende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tfMF.Prin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DA1-BA8E-4A72-9FD8-F55058E3F5A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280" y="76320"/>
            <a:ext cx="883944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aces with Multiple Base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685800"/>
            <a:ext cx="88394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we build interface hierarchies, it is permitted to create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 that derives fro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ultipl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 interfac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missible to build a class that derives from multiple ba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2803680"/>
            <a:ext cx="8610840" cy="375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sz="2000" spc="-1" strike="noStrike">
                <a:solidFill>
                  <a:srgbClr val="010199"/>
                </a:solidFill>
                <a:latin typeface="Times New Roman"/>
              </a:rPr>
              <a:t>IC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Driv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sz="2000" spc="-1" strike="noStrike">
                <a:solidFill>
                  <a:srgbClr val="cc3300"/>
                </a:solidFill>
                <a:latin typeface="Times New Roman"/>
              </a:rPr>
              <a:t>IUnderwaterC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Dive(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JamesBondCa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sz="20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010199"/>
                </a:solidFill>
                <a:latin typeface="Times New Roman"/>
              </a:rPr>
              <a:t>ICar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sz="2000" spc="-1" strike="noStrike">
                <a:solidFill>
                  <a:srgbClr val="cc3300"/>
                </a:solidFill>
                <a:latin typeface="Times New Roman"/>
              </a:rPr>
              <a:t>IUnderwaterC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TurboBoost(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5257800" cy="288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DF8-A4A7-48FB-8009-72B444406E0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228600"/>
            <a:ext cx="876312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1" sz="2000" spc="-1" strike="noStrike">
                <a:solidFill>
                  <a:srgbClr val="ff0000"/>
                </a:solidFill>
                <a:latin typeface="Times New Roman"/>
              </a:rPr>
              <a:t>JamesBondCa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JamesBondC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Drive(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Speeding up..."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Dive(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Submerging..."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TurboBoos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Blast off!"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CC4-1788-4382-819C-8880E5275D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228600"/>
            <a:ext cx="868680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ass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JamesBondCar j = new JamesBondCa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j.Driv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j.TurboBoos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j.Div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CD9-7A4C-4006-B09B-67FCAD9676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ementing an Interface Using C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685800"/>
            <a:ext cx="876312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class derives from System.Object and implements a single interf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SomeClass : ISome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280" y="2514600"/>
            <a:ext cx="883944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class derives from a specific base class and implements a single interf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AnotherClass : MyBaseClass, ISome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28600" y="4343400"/>
            <a:ext cx="876312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This struct derives from System.ValueType and implements a single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ruct SomeStruct : ISome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DB0-F514-4B8A-BAAC-0062FE6741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the IConvertible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62120"/>
            <a:ext cx="876312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faces are used extensively throughout the .NET base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libra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Convertible type, which allows us to dynamically conve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etween data types using interface-based programming techniq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this interface, we are able to cast between types on the f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ity of the intrinsic data types of C# (bool, int, double, etc.)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imply aliases to the System name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 any .NET type, each of these structures may define any numb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methods and may optionally implement any number of predefin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E2C-0067-40B2-A60C-98E4C1ADF49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1676520"/>
            <a:ext cx="876312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uct </a:t>
            </a:r>
            <a:r>
              <a:rPr b="0" sz="2000" spc="-1" strike="noStrike">
                <a:solidFill>
                  <a:srgbClr val="010199"/>
                </a:solidFill>
                <a:latin typeface="Times New Roman"/>
              </a:rPr>
              <a:t>Boolean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Comparable, IConvert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readonly string FalseString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readonly string TrueString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int CompareTo(object obj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bool Equals(object obj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int GetHashCod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Type GetTyp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TypeCode GetTypeCod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bool Parse(string valu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string ToString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string ToString(IFormatProvider provide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28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view the formal C# definition of System.Boolean, we woul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nd this type implements the IComparable and IConvertib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1DA-6829-429F-B504-ECCE420AFD1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320" y="15228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ypes present in the  IConvertible interface is defined as follow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762120"/>
            <a:ext cx="8763120" cy="58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public interface IConvertibl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TypeCode GetTypeCode(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bool ToBoolean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byte ToByte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char ToChar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DateTime ToDateTime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Decimal ToDecimal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double ToDouble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short ToInt16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int ToInt32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long ToInt64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SByte ToSByte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float ToSingle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string ToString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object ToType(Type conversionType, 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UInt16 ToUInt16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UInt32 ToUInt32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UInt64 ToUInt64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C18-4A15-4CC3-95FE-E8C2B00DD38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228600"/>
            <a:ext cx="876312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comparing, we might feel that the previous definition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System.Boolean is in error, because most of the members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Convertable do not appear in the formal structure defin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ason for this behavior is: If a type implements members of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given interface using explicit interface implementation, they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hidden from tools such as wincv.ex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ish to gain access to each member of IConvertible interfac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 must explicitly request access to the interface us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657600"/>
            <a:ext cx="861048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Obtain the IConvertible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 myBool = tru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onvertible itfConv =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onvert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myBoo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BC9-7A4D-47D1-98C9-4099EDBCE91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3816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IConvertible.ToXXXX() Me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533520"/>
            <a:ext cx="8839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call IConvertible, what exactly do these members 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defines a number of  methods of the form ToXXXX(), whi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rovide a way to convert from one type into ano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may not always be possible to convert between data typ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although it is natural to convert an Int32 into a Doubl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t really makes no sense to convert from a Boolean into a DateTi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type implements an interface, it must contend with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ll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 (even if they are not applicable),, otherwise the syste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s will simply throw an InvalidCastException if the conversion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emantically ill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3F31-6264-4912-A724-5DC9084E42E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228600"/>
            <a:ext cx="876312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Obtain the IConvertible interf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ool myBool = tru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Convertible itfConv = (IConvertible)myBoo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tfConv.ToSingle(...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tch (InvalidCastException 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irteLine(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EB9-6704-4348-BC6E-1E2B5F129B3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320" y="763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Brief Word Regarding IFormatProvi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458640"/>
            <a:ext cx="8991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ToXXXX() methods take a parameter of typ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FormatProvid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s that implement this interface are able to format thei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tents based on culture-specific inform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2133720"/>
            <a:ext cx="8610480" cy="1313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ormatProvi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GetFormat(Type formatTyp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492360"/>
            <a:ext cx="8610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ere to build a custom type that should be formatted us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arious locals, implementing IFormatProvider would be a mu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returning a floating point number that is formatted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arious currenc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00B-AE61-470A-95F9-ECFBBB98E78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304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are simply attempting to call members of the base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ibraries that require an IFormatProvider-compatible object, use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Globalization.CultureInfo type as follo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2057400"/>
            <a:ext cx="8458200" cy="192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Convertible itfConvert = (IConvertible)theI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yte theByte = itfConvert.ToByte(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CultureInfo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CurrentCultur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Type code int converted to byte is: {0}"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heByte.GetTypeCode(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Value of converted int: {0}", theByt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B0C5-F0CF-4AEE-9AF6-1D9826A4B0D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onvertible.GetTypeCode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76212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ddition to the ToXXXX() members, IConvertible defines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ber named GetTypeCode(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method allows us to programmatically discover a value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presents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ype co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type, which is represented by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llowing enumeration: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3336840"/>
            <a:ext cx="861048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nu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ean, Byte, Char, DateTim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Null, Decimal, Double, Empty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16, Int32, Int64, Objec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Byte, Single, String, UInt16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Int32, UInt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83E-54FB-49E3-A490-7AC0AE259CF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15228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ing a Custom Enumerator (IEnumerable and IEnumer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we have developed a class named Cars that contains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et of individual Car types stored within a System.Arra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660680"/>
            <a:ext cx="8686800" cy="43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// Cars is a container of Car objec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C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ivate Car[] carArra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// Create some Car objects upon startu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ar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rArray = new Car[4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rArray[0] = new Car("FeeFee", 200, 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rArray[1] = new Car("Clunker", 90, 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rArray[2] = new Car("Zippy", 30, 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rArray[3] = new Car("Fred", 30, 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54D-9F66-4285-80F7-6D08EE98EFC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28600" y="609480"/>
            <a:ext cx="868680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Hexagon now implements IPoin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Hexagon : Shape, IPoin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Hexagon(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Hexagon(string name) : base(nam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override void Draw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Drawing {0} the Hexagon", PetName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IPointy Implement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byte 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get { return 6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04920" y="76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d shape hier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35A-4380-4EE1-9FC0-1AF04E6376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228600"/>
            <a:ext cx="8763120" cy="43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This seems reasonable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CarDri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rs carLot = new Cars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// Hand over each car in the collectio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each (Car c in carLo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Name: {0} ", c.PetNam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Max speed: {0} ", c.MaxSpee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7563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mpiler informs you that the Cars class does no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mplement a method named GetEnumerator(). This method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ed by the IEnumerable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8AC-C726-407A-A32B-170BB095715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136440"/>
            <a:ext cx="868680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This interface informs the call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that the object's subitems can be enumera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IEnumer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Enumerator GetEnumerato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73988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etEnumerator() method returns a reference to yet anoth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 named System.Collections.IEnumerat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nterface provides the infrastructure to allow the caller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raverse the internal objects contained by the IEnumerable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atible contai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, to rectify the problem, we may begin by updating the Ca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definition as follo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495680"/>
            <a:ext cx="8382240" cy="2284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class Cars 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numer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IEnumerable defines a single metho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IEnumerator GetEnumerator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OK, now what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474-2C36-40B0-A017-CDFD541F3E2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1600200"/>
            <a:ext cx="868680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This interface allows the caller 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obtain a container's subitem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IEnum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ool MoveNext(); // Advance the internal position of the curs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object Current { get; } // Get the current item (read-only propert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Reset(); // Reset the cursor before the first memb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Enumerator is also defined in the System.Collections namespa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defines the following three  method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4D3-1760-498D-909E-1C862A04D5C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n that IEnumerable.GetEnumerator() returns an IEnumerat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, we may update the Cars type as follo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143000"/>
            <a:ext cx="8686800" cy="25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Cars : IEnumerable, IEnumer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mplementation of IEnumer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IEnumerator GetEnumerator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(IEnumerator)thi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11480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ly the implementation of MoveNext(), Current, and Reset() f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Cars typ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is one possible implementation of these  membe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66B-5C5F-429D-8170-269CFB2BD3D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52280" y="76320"/>
            <a:ext cx="8839440" cy="6712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// An enumerable car collection!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 class Cars : IEnumerable, IEnumerato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ivate Car[] carArray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// Current position in array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nt pos = -1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 Cars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 // Make some cars and add them to the array... 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// IEnumerator implementation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 bool MoveNext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f(pos &lt; carArray.Length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os++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turn true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turn false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 void Reset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   pos = 0;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 object Curren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et {   return carArray[pos];   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// IEnumerable implementation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 IEnumerator GetEnumerator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 return (IEnumerator)this; 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526-9AE2-4611-BDA9-418F973A8DF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600" y="152280"/>
            <a:ext cx="8686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then, what have we gained by equipping our class to suppo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the IEnumerator and IEnumerable interfac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, our custom type can now be traversed using the forea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nta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209680"/>
            <a:ext cx="8686800" cy="1465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ach(Car c in carLo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Name: {0} ", c.Pet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Max speed: {0} ", c.MaxSpee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971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FBF-881E-452C-9CF8-3FF6381E573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93760" y="152280"/>
            <a:ext cx="862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ddition, when we explicitly implement the members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Enumerator, we provide the object user with an alternative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ccessing the underlying objects in the contain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371600"/>
            <a:ext cx="861048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ccess Car types using IEnumera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numerator itfEnu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fEnum = (IEnumerator)carLo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Reset the cursor to the beginn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fEnum.Rese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dvance internal cursor by 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fEnum.MoveNex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Grab current Car and crank some tu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curCar = itfEnum.Curre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(Car)curCar).CrankTunes(tru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85F-9074-42FE-9E4D-A2F9638E453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280" y="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ightening Up the Cars Class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572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Array already implements IEnumerator, we could short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coding of the Cars type quite a bit. Here is the complete upda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295280"/>
            <a:ext cx="8763120" cy="5306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Cars : IEnumerable // IEnumerator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Don't need this anymo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is class maintains an array of ca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ar[] carArra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ars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Array = new Car[4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Array[0] = new Car("FeeFee", 200, 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Array[1] = new Car("Clunker", 90, 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Array[2] = new Car("Zippy", 30, 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Array[3] = new Car("Fred", 30, 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IEnumerator GetEnumerator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Now just get back the IEnumerator fr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internal arra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carArray.GetEnumerator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38E-7B7B-4558-813B-D47F9F9CAE7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9036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ing Cloneable Objects (IClone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754200"/>
            <a:ext cx="883908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bject defines a member named MemberwiseClone(). Th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 is used to obtain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hallow cop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current objec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 users do not call this method directly (as it is protected)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however, a given object may call this method itself during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on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aware that if we assign one reference variable to anothe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 have two references pointing to the same object in mem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llowing assignment operation results in two references to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ame Point object on the heap; modifications using either refere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ffect the same object on the hea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5E5-C2DC-460D-A489-2FD7BA6D893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280" y="2286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152280"/>
            <a:ext cx="876312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lass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Public for easy acce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int x, 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Point(int x, int y) { this.x = x; this.y = y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Point() 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Override Object.ToString(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override string ToString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string.Format("X = {0}; Y = {1}", x, 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Two references to same objec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oint p1 = new Point(50, 5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oint p2 = p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2.x = 0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//modification affects the value of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p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p2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E2BB-54F9-4545-BF3E-9D3FE611C93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28600" y="257040"/>
            <a:ext cx="8763120" cy="6461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// New Shape derived class named Triangle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public class Triangle : Shape, IPoint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public Triangle()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public Triangle(string name) : base(name)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public override void Draw(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Console.WriteLine("Drawing {0} the Triangle", PetName)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// IPointy Implementati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public byte Point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return 3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352680" y="3962520"/>
            <a:ext cx="5562720" cy="266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B89-EBB5-4B12-8DB4-81A4748489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2280" y="152280"/>
            <a:ext cx="88394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wish to equip our custom types to support the ability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turn an identical copy of itself to the caller, we may implement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andard ICloneable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type defines a single method named Clone(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828800"/>
            <a:ext cx="876312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Clone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Clo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3276720"/>
            <a:ext cx="8686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mplementation of the Clone() method varies between o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the basic functionality tends to be the same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py the values of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member variables into a new object instance, and return it to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u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5C1-DED0-4812-ABAB-8DE31ADD81A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152280"/>
            <a:ext cx="8763120" cy="648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class Point : ICloneabl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int x, y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Point() { 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Point(int x, int y) { this.x = x; this.y = y; 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Return a copy of the current object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object Clone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return new Point(this.x, this.y);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this.MemberwiseClone();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override string ToString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return string.Format("X = {0}; Y = {1}", x, y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Notice Clone() returns a generic object typ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You must perform an explicit cast to obtain the derived typ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oint p3 = new Point(100, 100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oint p4 = (Point)p3.Clone(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Change p4.x (which will not change p3.x)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4.x = 0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Print each object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p3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p4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714F-D3BE-4662-9737-3C9C2F81547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ore Elaborate Cloning 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609480"/>
            <a:ext cx="876312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assume the Point class contains a reference type memb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ariable of type PointDescrip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class maintains a point’s friendly name as well as an i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umber expressed as a System.Guid (Globally Unique Identifi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[GUID] is a statistically unique 128-bit numb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2743200"/>
            <a:ext cx="868680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PointDescri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Exposed publicly for simplici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petNam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Guid pointI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PointDescriptio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his.petName = "No-name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ointID = Guid.NewGuid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3C7-1487-4536-BE9E-97D94C5923A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8600" y="152280"/>
            <a:ext cx="8763120" cy="6177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lass Point : IClon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int x, 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PointDescription desc = new PointDescriptio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Point(){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Point(int x, int 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his.x = x; this.y = 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Point(int x, int y, string petna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his.x = x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his.y = 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desc.petName = petnam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object Clone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this.MemberwiseClone(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override string ToString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string.Format("X = {0}; Y = {1}; Name = {2};\nID = {3}\n"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x, y, desc.petName, desc.pointID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C0F-211A-4BBA-AC7C-3F4112F0F63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8600" y="152280"/>
            <a:ext cx="8686800" cy="5582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Cloned p3 and stored new Point in p4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oint p3 = new Point(100, 100, "Jane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oint p4 = (Point)p3.Clo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Before modification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p3: {0}", p3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p4: {0}", p4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4.desc.petName = "Mr. X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4.x = 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Changed p4.desc.petName and p4.x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After modification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p3: {0}", p3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p4: {0}", p4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3AB-2C46-4EF9-A746-DB0EF88B81A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for your Clone() method to make a complete deep copy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internal reference types, you need to configure the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turned by MemberwiseClone() to account for the current point’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905120"/>
            <a:ext cx="8686800" cy="2838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Now we need to adjust for the PointDescription memb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bject Clon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newPoint = (Point)this.MemberwiseClo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Description currentDesc = new PointDescription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Desc.petName = this.desc.petNam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Point.desc = currentDesc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newPoi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550-4AC7-4A43-8F6A-451FA8328D2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ing Comparable Objects (ICompar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7621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stem.IComparable interface specifies a behavior that allow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 object to be sorted based on some specified ke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676520"/>
            <a:ext cx="8686800" cy="1465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This interface allows an object to specify i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relationship between other like objec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interface ICompar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CompareTo(object o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35053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we have updated the Car class to maintain an internal I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umber that can be set via a constructor parameter and manipulat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ing a new property named I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812-FCB0-4DF1-AE73-F6562659229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600" y="228600"/>
            <a:ext cx="8763120" cy="612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lass Ca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ivate int carI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ivate int currSpee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ivate string petNam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int 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carI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rID = value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ar(string name, int currSp, int i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urrSpeed = currS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etName = nam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rID = i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539-735E-43CF-80CE-F776D56EAC6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52280" y="228600"/>
            <a:ext cx="8839440" cy="3660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Make an array of Car typ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r[] myAutos = new Car[5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0] = new Car("Rusty", 80, 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1] = new Car("Mary", 40, 234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2] = new Car("Viper", 40, 34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3] = new Car("Mel", 40, 4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4] = new Car("Chucky", 40, 5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each (Car c in myAut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{0} {1}", c.ID, c.pet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3979800"/>
            <a:ext cx="8686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stem.Array class defines a static method named Sort(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invoke this method on an array of intrinsic types (in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hort, string, etc.), we are able to sort the items in the array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umerical/alphabetic order as these intrinsic data types impl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Compar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949B-A17C-408A-A998-1D71F6A4A70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52280" y="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we send an array of Car types into the Sort() method as follow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457200"/>
            <a:ext cx="868680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Sort my ca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ray.Sort(myAuto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1066680"/>
            <a:ext cx="87631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ArgumentException exception is thrown by the runtim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th the following message: “At least one object must impl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Comparable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build custom types, we can implement IComparable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llow arrays of our types to be s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9067680" cy="181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F9D-E058-4110-8FB4-0B0698F735A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76320"/>
            <a:ext cx="883944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asting Interfaces to Abstract Base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52280" y="685800"/>
            <a:ext cx="8839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allows us to build abstract class types containing abstra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stract base classes define a group of abstract  methods. They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ree to define public, private, and protected state data, any number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 that can be accessed by the subclas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faces, are pure protocol. Interfac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ev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state data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ev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an implementation of the metho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04920" y="3794040"/>
            <a:ext cx="861048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IAmABad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Error, interfaces can't define data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myInt =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Error, only abstract members allow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MyMethod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 Console.WriteLine("Eek!")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315-C4F7-4BF5-8A88-1C57712784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88920"/>
            <a:ext cx="8610480" cy="642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lass Car : ICompar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rivate int carI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rivate int currSpee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rivate string petNam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int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carI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rID = valu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IComparable.CompareTo(object obj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r temp = (Car)obj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this.carID &gt; temp.carI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this.carID &lt; temp.carI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-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4038480"/>
            <a:ext cx="419112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ic behind CompareTo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o test the incoming type against the current instance based on a specific point of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7F2-2742-41F2-B346-6658960BB58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2280" y="152280"/>
            <a:ext cx="8839440" cy="5306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ar(string name, int currSp, int i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urrSpeed = currS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etName = nam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rID = i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Make an array of Car typ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r[] myAutos = new Car[5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0] = new Car("Rusty", 80, 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1] = new Car("Mary", 40, 234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2] = new Car("Viper", 40, 34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3] = new Car("Mel", 40, 4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4] = new Car("Chucky", 40, 5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Here is the unordered set of cars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each (Car c in myAut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{0} {1}", c.ID, c.pet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301-0CB4-4C93-93A1-AAD005E2BC4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152280"/>
            <a:ext cx="8763120" cy="4483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Now, sort them using IComparabl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Array.Sort(myAuto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tch( Exception 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Message :"+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Dump sorted arr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Here is the ordered set of cars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each (Car c in myAut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{0} {1}", c.ID, c.pet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889-5A95-45A6-8863-77C9D430A0B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fying Multiple Sort Orders (ICompar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685800"/>
            <a:ext cx="876312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f we wanted to build a Car that could be sorted by I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 well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a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pet nam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is is the case, we need to use another standard interface nam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Comparer, defined within the System.Collections namesp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666880"/>
            <a:ext cx="868680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A generic way to compare two objec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Compar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Compare(object o1, object o2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686-6AAF-4C30-9B2A-C138E048C1F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76320"/>
            <a:ext cx="876312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omparer is not implemented in the way we sorted the car 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implement this interface on any number of helper classes, o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r each sort order (pet name, car ID, etc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allow the object user to sort an array of Car types by pet na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ll require an additional helper class that implements ICompar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2417760"/>
            <a:ext cx="8686800" cy="4208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This helper class is used to sort an array of Cars by pet na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.Collection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lass PetNameComparer :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Compar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PetNameComparer()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Test the pet name of each obje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Comparer.Compare(object o1, object o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r t1 = (Car)o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r t2 = (Car)o2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String.Compare(t1.PetName, t2.Pet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68A-3D07-4A0A-8AFF-6EDFAF797CB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28600" y="304920"/>
            <a:ext cx="868680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Now sort by pet na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Array.Sort(myAutos, new PetNameComparer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Dump sorted arra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Ordering by pet name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each(Car c in myAut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{0} {1}", c.ID, c.PetNam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3FF-4F47-4688-B550-427C039FA18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320" y="76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Custom Properties, Custom Sort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320" y="457200"/>
            <a:ext cx="89154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make use of a custom static property in order to help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bject user to sort the types by a specific data poi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the Car class has added a static read-only property nam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ortByPetName that returns an instance of an object implement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IComparer interface (PetNameComparer, in this case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2575080"/>
            <a:ext cx="845820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We now support a custom property to 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he correct IComparer interf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Car : ICompar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Property to return the SortByPetName compar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IComparer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SortByPet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 get { return (IComparer)new PetNameComparer(); }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5851440"/>
            <a:ext cx="853416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Sorting by pet name made a bit clean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.Sort(myAutos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.SortByPe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5257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ing logic in Main()……….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BED-6F9D-48FE-863B-DC4658A4FFF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oring the System.Collections Name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609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stem.Collections namespace defines a number of interfa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83908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472-F169-449C-84BC-58756A3BF18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2280" y="7632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ole of ICol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685800"/>
            <a:ext cx="8763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primitive interface of the System.Collections name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nterface provides a small set of properties that allow you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termin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umber of items in the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d safety of the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ility to copy the contents into a System.Array typ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59280"/>
            <a:ext cx="830592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Colle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Enumer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IEnumerable member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Count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IsSynchronized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SyncRoot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CopyTo(Array array, int index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C30-FD52-40C2-9F0D-A3ACD701738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2280" y="7632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ole of IDiction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685800"/>
            <a:ext cx="88394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ctionar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collection that maintains a set of name/value pai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ictionary interface defines a Keys and Values property as we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 Add(), Remove(), and Contains() methods. The individual item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y be obtained by the type index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514600"/>
            <a:ext cx="868680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ictionar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Collection, IEnumer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IsFixedSize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IsReadOnly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this[ object key ] { get; s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ollection Keys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ollection Values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Add(object key, object valu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Clea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Contains(object key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ictionaryEnumerator GetEnumerato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Remove(object key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3189-4AEA-4F43-B94F-EBE468334C3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28600" y="889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oking Interface Members at the Object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7621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straightforward way to interact with functionality suppli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y a given interface is to invoke the methods directly from the obj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1600200"/>
            <a:ext cx="876312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all new Points member defined by IPoin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xagon hex = new Hexagon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Points: {0}", hex.Point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28600" y="4038480"/>
            <a:ext cx="8686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approach works fine in this particular case, given that we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ll aware that the Hexagon type has implemented the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times, we will not be able to determine at compile time whi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s are supported by a given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DF0-D905-48AF-99EA-01963BB4BD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77840" y="11448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ole of IDictionaryEnume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7621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ictionaryEnumerator is simply a strongly typed enumerator, giv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t it extends IEnume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1600200"/>
            <a:ext cx="883944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ictionaryEnumer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Enum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IEnumerator methods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tionaryEntry Entry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Key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Value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1D3-9990-4A15-BB6C-73FF36FE911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52280" y="7632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ole of I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6858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ist provides the ability to insert, remove, and index items in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or out of) a contai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1523880"/>
            <a:ext cx="868680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Lis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Collection, IEnumer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IsFixedSize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IsReadOnly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this[ int index ] { get; s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Add(object valu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Clea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Contains(object valu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IndexOf(object valu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Insert(int index, object valu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Remove(object valu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RemoveAt(int index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7DF-830F-4677-B877-26D5C598B87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2280" y="76320"/>
            <a:ext cx="883944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lass Types of System.Coll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915400" cy="4495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371600" y="5334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asses o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Coll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C2F-66F2-469B-AC88-751E12B0174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8600" y="7632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ing with the ArrayList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762120"/>
            <a:ext cx="883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frequently used type in the System.Collections name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allows us to dynamically resize the cont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318-1D46-4211-8EDC-C5022FEED0B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114480"/>
            <a:ext cx="883908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reate ArrayList and fill with some initial valu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rayList carArList = new ArrayList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ArList.AddRange(new Car[] { new Car("Fred", 90, 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Car("Mary", 100, 50), new Car("MB", 190, 11)}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Items in carArList: {0}", carArList.Cou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Print out current valu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ach(Car c in carArLis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Car pet name: {0}", c.Pet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Insert a new i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\n-&gt;Inserting new Car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ArList.Insert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ew Car("TheNewCar", 0, 12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Items in carArList: {0}", carArList.Cou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Get object array from ArrayList and print ag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[] arrayOfCars = carArList.ToArray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(int i = 0; i &lt; arrayOfCars.Length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Car pet name: {0}", ((Car)arrayOfCars[i]).Pet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034-908D-4B3A-8595-879516269A2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280" y="7632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ing with the Queue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6858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5335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ues are containers that ensure items are accessed using a first-i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rst-out man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41120" y="1371600"/>
            <a:ext cx="8850600" cy="1981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52280" y="34290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llustrate these methods, we will use automobile theme o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gain and build a Queue object that simulates a line of cars waiting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nter a car wash. Assume the following static helper metho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4648320"/>
            <a:ext cx="8839440" cy="1313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WashCar(Car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Cleaning {0}", c.PetNam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FF9-1845-435C-B36D-2729555C3C7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28600" y="76320"/>
            <a:ext cx="861048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Make a Q with three i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 carWashQ = new Queu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WashQ.Enqueue(new Car("FirstCar", 0, 1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WashQ.Enqueue(new Car("SecondCar", 0, 2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WashQ.Enqueue(new Car("ThirdCar", 0, 3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Peek at first car in Q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First in Q is {0}"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(Car)carWashQ.Peek()).Pet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Remove each item from Q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shCar((Car)carWashQ.Dequeu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shCar((Car)carWashQ.Dequeu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shCar((Car)carWashQ.Dequeu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ry to de-Q agai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shCar((Car)carWashQ.Dequeue())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(Exception 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 Console.WriteLine("Error!! {0}", e.Message);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38E-A387-47C6-A90D-7C100841EA6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6320" y="76320"/>
            <a:ext cx="88390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ing with the Stack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280" y="6858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stem.Collections.Stack type represents a collection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intains items using a last-in, first-out man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1523880"/>
            <a:ext cx="883944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Str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stringStack = new Stack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tack.Push("One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tack.Push("Two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tack.Push("Three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A40-777F-4C8D-A690-71F9FCA4ECC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52280" y="152280"/>
            <a:ext cx="883944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Now look at the top item, pop it, and look aga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op item is: {0}", stringStack.Peek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opped off {0}", stringStack.Pop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op item is: {0}", stringStack.Peek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opped off {0}", stringStack.Pop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op item is: {0}", stringStack.Peek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opped off {0}", stringStack.Pop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op item is: {0}", stringStack.Peek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opped off {0}", stringStack.Pop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(Exception 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Error!! {0}", e.Messag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72B-C458-4989-84A8-6A626FDB4FB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76320" y="76320"/>
            <a:ext cx="876276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.Collections.Specialized Name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14480" y="762120"/>
            <a:ext cx="8915400" cy="510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74F-5CD2-49EA-A257-68B401FFC02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28600" y="228600"/>
            <a:ext cx="8686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assume we have an array containing 50 Shape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atible types, only some of which support IPointy. If w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ttempt to invoke the Points property on a type that has no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mplemented IPointy, we receive a compile-time err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question is how can we dynamically determine the set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s supported by a typ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way is we can determine at runtime if a type supports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pecific interface is to make use of an explicit cas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type does not support the requested interface, we receive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validCastExcep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67A-1570-4A26-8CE1-0F18CD9E73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4:55:45Z</dcterms:created>
  <dc:creator>Hemanth</dc:creator>
  <dc:description/>
  <dc:language>en-US</dc:language>
  <cp:lastModifiedBy>Hemanth</cp:lastModifiedBy>
  <dcterms:modified xsi:type="dcterms:W3CDTF">2012-10-29T15:51:22Z</dcterms:modified>
  <cp:revision>462</cp:revision>
  <dc:subject/>
  <dc:title>Interfaces and Collections</dc:title>
</cp:coreProperties>
</file>